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C749-193F-4A5D-BFDC-FE435565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602-EE5F-477C-963F-4D2F772F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085-8AF3-4089-A401-9D4777EE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A51-CC20-4776-8131-E0B16099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1B7D-FFD7-4578-B7D2-FA9F6D11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4534-6548-4593-A679-65B79819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9475-12C5-45AB-9C83-2EA80127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D844-8A6E-4167-B021-BB3E5C83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849C-3FC5-4711-9B13-20E5DA2B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E80A-71E7-4FBE-A3F7-CB6CA79E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539E-96B3-4342-BF45-4D3D52A0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FAA-64C6-4815-A183-AAE62B20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3D14-CC55-421F-8735-A8B21BDC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DF7C-92B4-45F3-80F3-C1656240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E729-3F27-413D-BAF5-771F2764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596A-2174-4FBA-8534-75297041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13AE-93C2-445B-96AB-7026D1A0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DE79-EED0-4524-8431-8C448CFB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695-7865-417E-ABAC-F008A989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B11-81BD-4544-8C5D-5416E4F1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5AFA-137B-48AC-B2F3-F11CE237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5D85-A89F-4D15-A522-FF6EC37B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B531-55C9-4E08-B0E3-DDF652D2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D2F-AB09-49FD-B592-420F9E7B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54D2-3081-4179-BDEA-23A81281CA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3815-37D9-4113-8FCA-EF5F48656A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urs “Cine ştie câştigă!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aiati cu o linie afirmatiile incorecte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Atom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Este componenta a materie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ivizibila/divizibi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in procedee chimice obisn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Se afla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aus/miscare contin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Electrizat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zitiv/negativ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electriz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eutra electr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)Nu participa/partici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fectiv in reactiile chim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urs “Cine ştie câştigă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.Învelişul electronic al atomului este format d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totalitatea protonilor din nucle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totalitatea neutronilor din nucle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totalitatea electronilor care gravitează în jurul nucleulu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urs “Cine ştie câştigă!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.Numărul maxim de electro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ntr-un strat este dat de relaţ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)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b)2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)2n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de n=nr. strat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urs “Cine ştie câştigă!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.Relaţia dintre numărul electronil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şi numărul protonilor dintr-un atom e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)e &lt; 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b)e &gt; 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)e =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urs “Cine ştie câştigă!”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1676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.Precizaţi sarcina electrică a nucleului atomic, numărul de neutroni şi de electroni pentru atomii elementelor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112760" y="3506760"/>
                <a:ext cx="10382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774960" y="3506760"/>
                <a:ext cx="9637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732720" y="3429000"/>
                <a:ext cx="12240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l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urs “Cine ştie câştigă!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5 atomi de fosfor se noteaza prescurt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5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5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curs “Cine ştie câştigă!” </a:t>
            </a:r>
            <a:br>
              <a:rPr sz="34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lculati Numărul atomic Z si numărul de masă A pentr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03360" y="2209680"/>
            <a:ext cx="613728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827720"/>
            <a:ext cx="70563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.Se dau elementele A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tiind că între  numerele lor atomice exist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relaţii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ZA+ ZB+ ZC=20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ZA- ZB= ZC+2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ZA+ ZB - ZC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ă se identifice cele trei element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urs “Cine ştie câştigă!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urs “Cine ştie câştigă!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Se dau proportiile in care se gasesc izotopii siliciului: 92,2% Si(A=28,Z=14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,65%(A=29), 3,1%(A=30). Masa atomica a Si es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27,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28,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5:35:09Z</dcterms:created>
  <dc:creator>user</dc:creator>
  <dc:description/>
  <dc:language>en-US</dc:language>
  <cp:lastModifiedBy>user</cp:lastModifiedBy>
  <dcterms:modified xsi:type="dcterms:W3CDTF">2007-09-11T16:06:25Z</dcterms:modified>
  <cp:revision>1</cp:revision>
  <dc:subject/>
  <dc:title>Concurs “Cine ştie câştigă!”</dc:title>
</cp:coreProperties>
</file>